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771-BF9E-420B-80CD-2877F671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A5D-740D-4838-A820-ED66463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FCF-F7D6-4E9A-A198-7CF5A0E3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488-1749-4759-B5ED-C7415530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627-4507-4BD1-812E-CDCB765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0A9-9128-4FB5-B1B5-054B6DB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511-D0E1-4557-9753-EBCF16D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6D5-DB76-4D37-B3AF-5579636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CC3-2E9B-42ED-9C97-DADD45F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B96-C3FA-474A-8969-940D497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52E-168A-44B4-BCC5-1EC148AB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BFE-03DA-4B05-AB9E-F9B5828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1F5-A96D-4B70-A3CC-5674A9F16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 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212840"/>
            <a:ext cx="6677280" cy="80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ЩЬ ПРИ УТЕЧКЕ БЫТОВОГО 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увствовав в помещении запах 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ерекройте его подачу к плите. При этом не курите, не зажигайте спичек, не включайте свет и электроприборы (лучше всего обесточить всю квартиру, отключив электропитание на распределительном щитке), чтобы искра не смогла воспламенить накопившийся в квартире газ и вызвать взры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ите всю кварти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ьно проветрите всю квартиру, а не только загазованную комнату, открыв все двери и окна. Покиньте помещение и не заходите в него до исчезновения запаха г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признаков отправления га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явлении у окружающих признаков отравления газом вынесите их на свежий воздух и положите так, чтобы голова находилась выше ног. Вызовите скорую медицинскую помощ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пах газа не исчез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овите аварийную газовую службу (телефон 04), работающую круглосуто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важных "нельзя" при эксплуатации или утечке газа в кварт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ремонтируйте газовые приборы самостоят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вязывайте к газовым трубам бельевых веревок и не используйте их в качестве зазем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исправляйте сами дефекты газопроводных труб! Инструментом можно высечь роковую иск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оставляйте без присмотра работающие газовые приборы, особенно - если доступ к ним имеют де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4-01-31T12:40:32Z</dcterms:modified>
  <cp:revision>75</cp:revision>
  <dc:subject/>
  <dc:title>Слайд 1</dc:title>
</cp:coreProperties>
</file>