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D61-EF28-4F04-BCE8-D581A31C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97A-5E95-4E4C-AD02-52742D68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BAE-97EA-4B06-BD81-2A61396B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61F-273B-47DF-A8AD-B6ECA435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B24-47E9-4F43-B06F-D6D612FD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DD0-2388-4F92-848D-B8B1FAE6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C29-2DD8-451F-AEE7-9AC3D88A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45D-4BA4-4754-86AE-1742C453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522-B98F-4FBC-B195-DBE9E028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B41-6082-4447-8886-EA2DFFCF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001-CB66-436A-929B-A20EF1D1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CA4-6E7E-4D7D-9800-E29CEC4D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E64-1DD8-468B-8694-736601D32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39680" y="19080"/>
            <a:ext cx="987480" cy="1170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16"/>
          <p:cNvSpPr/>
          <p:nvPr/>
        </p:nvSpPr>
        <p:spPr>
          <a:xfrm flipH="1">
            <a:off x="-144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17"/>
          <p:cNvSpPr/>
          <p:nvPr/>
        </p:nvSpPr>
        <p:spPr>
          <a:xfrm flipH="1">
            <a:off x="685656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18"/>
          <p:cNvSpPr/>
          <p:nvPr/>
        </p:nvSpPr>
        <p:spPr>
          <a:xfrm>
            <a:off x="0" y="914400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1"/>
          <p:cNvSpPr/>
          <p:nvPr/>
        </p:nvSpPr>
        <p:spPr>
          <a:xfrm>
            <a:off x="0" y="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0"/>
          <p:cNvSpPr/>
          <p:nvPr/>
        </p:nvSpPr>
        <p:spPr>
          <a:xfrm>
            <a:off x="1295280" y="115920"/>
            <a:ext cx="38102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Федеральный государственный пожарный надзор информируе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ser\Desktop\для газеты\images.jpg"/>
          <p:cNvPicPr/>
          <p:nvPr/>
        </p:nvPicPr>
        <p:blipFill>
          <a:blip r:embed="rId2"/>
          <a:stretch/>
        </p:blipFill>
        <p:spPr>
          <a:xfrm>
            <a:off x="5275440" y="76320"/>
            <a:ext cx="152532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90360" y="1212840"/>
            <a:ext cx="6677280" cy="79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поведения на ль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произошло беды на тонком льду, необходимо зн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условием безопасного пребывания человека на льду является соответствие толщины льда прилагаемой нагруз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опасная толщина льда для одного человека не менее 7 с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опасная толщина льда для сооружения катка 12 см и боле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опасная толщина льда для совершения пешей переправы 15 см и боле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опасная толщина льда для проезда автомобилей не менее 30 с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безопасного пребывания человека в вод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температуре воды +24°С время безопасного пребывания 7-9 час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температуре воды +5 - +15°С - от 3,5 часов до 4,5 ча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мпература воды +2 - +3°С оказывается смертельной для человека через 10-15 ми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температуре воды -2°С – смерть может наступить через 5-8 м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ль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ы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зрачный лёд с зеленоватым или синеватым оттенк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открытом бесснежном пространстве лёд всегда тол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вет льда молочно-мутный, серый лёд, обычно ноздреватый и пористый, такой лёд обрушивается без предупреждающего потрески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ёд, покрытый снегом (снег, выпавший на только что образовавшийся лёд, помимо того, что маскирует полыньи, замедляет рост ледяного покров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ёд более тонок на течении, особенно быстром, на глубоких и открытых для ветра местах; над тенистым и торфяным дном; у болотистых берегов; в местах выхода подводных ключей; под мостами; в узких протоках; вблизи мест сброса в водоемы теплых и горячих вод промышленных и коммунальных предприят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естах, где растет камыш, тростник и другие водные раст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З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ЩАЕТС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ыходить на лед в состоянии алкогольного опьянения, прыгать и бегать по льду, собираться большим количеством людей в одной точке, выходить на тонкий лед, который образовался на реках с быстрым теч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ЕГИТЕ СЕБЯ И СВОИХ БЛИЗКИХ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ПОЖАРЕ ЗВОНИТЬ 101, 112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DiPR</cp:lastModifiedBy>
  <dcterms:modified xsi:type="dcterms:W3CDTF">2025-03-31T09:19:39Z</dcterms:modified>
  <cp:revision>77</cp:revision>
  <dc:subject/>
  <dc:title>Слайд 1</dc:title>
</cp:coreProperties>
</file>