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CC36-86BE-45ED-A4D7-4DAD4A42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E09-E08C-400C-AE65-314C4E87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AAF-2BE8-4D8D-9CF2-4DC8904F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8BD-3F27-45E0-8EAC-0FA9E5F7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E13-097E-426F-BD39-D4EAFC62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FFC5-3132-45A5-B0D9-4500E37C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A1C4-B0E7-47B7-AF22-07C79A10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C4A-326A-4BE4-8262-C8D1D146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0D13-7538-42BD-A46D-7D266F1E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6E8-E86F-4AD8-8062-44BA889B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940-1304-46A2-93BB-B3C2000D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7F04-20BE-482D-AA67-7CB08899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5575-95DE-4AE0-896B-152751C85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39680" y="19080"/>
            <a:ext cx="987480" cy="1170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ая соединительная линия 16"/>
          <p:cNvSpPr/>
          <p:nvPr/>
        </p:nvSpPr>
        <p:spPr>
          <a:xfrm flipH="1">
            <a:off x="-1440" y="0"/>
            <a:ext cx="1440" cy="914400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17"/>
          <p:cNvSpPr/>
          <p:nvPr/>
        </p:nvSpPr>
        <p:spPr>
          <a:xfrm flipH="1">
            <a:off x="6856560" y="0"/>
            <a:ext cx="1440" cy="914400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18"/>
          <p:cNvSpPr/>
          <p:nvPr/>
        </p:nvSpPr>
        <p:spPr>
          <a:xfrm>
            <a:off x="0" y="9144000"/>
            <a:ext cx="6858000" cy="144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1"/>
          <p:cNvSpPr/>
          <p:nvPr/>
        </p:nvSpPr>
        <p:spPr>
          <a:xfrm>
            <a:off x="0" y="0"/>
            <a:ext cx="6858000" cy="144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0"/>
          <p:cNvSpPr/>
          <p:nvPr/>
        </p:nvSpPr>
        <p:spPr>
          <a:xfrm>
            <a:off x="1295280" y="115920"/>
            <a:ext cx="38102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Федеральный государственный пожарный надзор информируе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User\Desktop\для газеты\images.jpg"/>
          <p:cNvPicPr/>
          <p:nvPr/>
        </p:nvPicPr>
        <p:blipFill>
          <a:blip r:embed="rId2"/>
          <a:stretch/>
        </p:blipFill>
        <p:spPr>
          <a:xfrm>
            <a:off x="5275440" y="76320"/>
            <a:ext cx="152532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90360" y="1212840"/>
            <a:ext cx="6677280" cy="81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при возгорании автомоби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ь – это самый настоящий склад легковоспламеняющихся материалов: бензин, масло, резина, краска, кожа или ткань, проводка и т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ь выгорает полностью за 4 - 6 минут. Поэтому оказавшись рядом с таким пожаром, как можно быстрее покиньте место происшествия на безопасное расстояние – 10–15 метров по радиусу, так как при возгорании автомобиля может последовать взрыв бензоба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ая безопасность автомобиля зависит от бдительности и ответственности его владельца, от соблюдения им правил и норм эксплуатации. Кроме того, немаловажным условием безопасности является наличие исправного огнетушителя в автомоби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амым действенным огнетушителям относятся порошковые. Они заправляются специальным составом, который дает возможность тушить различные горючие вещества, а также электрическое оборудование, находящееся под напряж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ать огнетушитель нужно лишь в специализированных магазинах, проверяя перед этим сертификаты пожарной безопасности и паспорт, в котором должен быть прописан срок год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ать огнетушитель лучше в салоне, в непосредственной близости от автовладельца. Не рекомендуется оставлять его в багажнике, так как во время чрезвычайной ситуации доступ к нему может быть затрудн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ой возникновения пожара автомобиля может ст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равность электрической провод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ерметизация топливной систем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 температура некоторых детал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ение в автомобил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ая перевозка опасных груз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кновение автомобил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жог недоброжела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пожара водитель автомобиля должен быть готов предпринять правильные действия и грамотно локализовать очаг возгорания. Есть три наиболее важные вещи, которые надо всегда иметь в автомобиле: аптечку с медикаментами, огнетушитель и несинтетическую накид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РЕГИТЕ СЕБЯ И СВОИХ БЛИЗКИХ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ПОЖАРЕ ЗВОНИТЬ 101, 112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DiPR</cp:lastModifiedBy>
  <dcterms:modified xsi:type="dcterms:W3CDTF">2025-02-28T10:08:12Z</dcterms:modified>
  <cp:revision>76</cp:revision>
  <dc:subject/>
  <dc:title>Слайд 1</dc:title>
</cp:coreProperties>
</file>